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AFD-4BCC-40BF-A489-9E2C526C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354-9AB8-49DB-A8A8-0D930E1E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899-C0F0-4F50-B469-502E13FF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6DD-345D-4BE2-9495-0B4B2436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68F3-5A57-4827-81FC-6FF7C195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474E-53C8-4A25-A12C-4FA387DD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288-F3BA-4075-B1BA-D85FAA1B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6E26-E67F-4A30-BCC6-1F134EA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B551-368E-4809-88AB-0D78E87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654E-CF72-4612-814F-873C672D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C537-F31A-496B-9811-9BC258A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973-FB7A-49B5-A528-20A565F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EDDD-56CB-4CB3-9FDE-8C07EDAD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CF81-0FF3-498B-AFEC-71448DC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1A5-2CC5-43DF-908E-44FD624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F8C9-AAF6-4AA9-855E-BD345198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4C04-5CC0-4C80-AD99-2196BBA3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BE2-D5A3-4AC6-9607-558097D4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92D-12A7-4B0F-81DE-152EEFEB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EAB-6619-4F0A-9DD8-E54C6994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34D-5824-40F9-81A0-F3C76231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402-088D-452E-9770-F895C7D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DEE-E613-44CD-8C7E-2BC3AEC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D81-DEA7-44E5-AA7E-3951F40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276-DA2F-4824-B01F-E27D33BE8BE0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30D-2ECF-4AD0-9017-60B81DB98020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2276640"/>
            <a:ext cx="85690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hird General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ssociation of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aribbean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lectoral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rganizations (ACEO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Kingston, Jama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November 7 &amp;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05264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alphaModFix amt="23000"/>
          </a:blip>
          <a:stretch/>
        </p:blipFill>
        <p:spPr>
          <a:xfrm>
            <a:off x="2411280" y="189000"/>
            <a:ext cx="1513080" cy="149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1511280" cy="147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0920" y="3284640"/>
            <a:ext cx="7777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The OAS, IFES and the E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ish you a fruitful meet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052640" cy="1773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>
            <a:alphaModFix amt="23000"/>
          </a:blip>
          <a:stretch/>
        </p:blipFill>
        <p:spPr>
          <a:xfrm>
            <a:off x="2411280" y="189000"/>
            <a:ext cx="1513080" cy="149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1511280" cy="147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016000" cy="15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B0D-06F7-48C0-9089-58C639F794B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1.  Founding of the ACE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353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aribbean Election Network Conference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-January 1997, Jama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irth of the AC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7957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852640"/>
            <a:ext cx="8353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rst General 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March 1998, Puerto R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harter signed by 22 countries &amp; dependent territ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n Juan Declaration on the Political Rights for Persons with Dis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14972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 Executive Board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Work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Newsletter: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The ACEO Report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-January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44500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ond General 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2001, Jama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Members pledged to pay d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28000" y="115920"/>
            <a:ext cx="9666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682-5709-455C-AF9C-D51684A9593F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2.  Purpose of the ACEO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–Chapter 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[…] to promote cooperation and mutual assistance among electoral organizations in the Caribbean in the pursuit of democracy by processes that ensure free, fair, and peaceful election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-Art. 1.1, ACEO Charter, 199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A70-6E9B-406A-9EF3-FDA07C9747D3}" type="slidenum">
              <a:t>3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431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3. Structure of the ACEO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–Chapter I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ree Orga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Article 2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he General Assemb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he Executive Bo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he Secretari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342900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General Assemb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Article 2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4221000"/>
            <a:ext cx="820872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Executive Bo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Article 2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Five persons elected by the General Assemb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One of those five persons is elected Chair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Terms of three 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101080" y="115920"/>
            <a:ext cx="9396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9A5-2540-49D4-90E8-7D9B30FEDADF}" type="slidenum">
              <a:t>4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3.  Structure of the ACEO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–Chapter I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37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Secretaria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–Article 2.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IFES and the OAS initially served as interim Co-Secretariat of the Associ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645000"/>
            <a:ext cx="820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Executive Secretar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Article 2.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Appointed by the Executive 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Serves as the Secretary of the Bo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2FD-1B48-4BDE-9045-1C3C715D76AC}" type="slidenum">
              <a:t>5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8567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4.   ACEO Membership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–Chapter II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137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ree types of Membe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–Article 3.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ull Members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Electoral Organizations of the Caribbean 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2924280"/>
            <a:ext cx="8137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ssociate Members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Individuals who are current or former Election Officers or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      Commissioners of an organization qualified for full memb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2. Caribbean non-governmental and non-partisan organiz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869000"/>
            <a:ext cx="8137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onorary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80D-3491-46A7-8F18-CC04FD3CEA7F}" type="slidenum">
              <a:t>6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5.  Primary Objectives of the Third        Meet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35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ahoma"/>
              </a:rPr>
              <a:t>To address substantive issues regarding elections in the Caribbea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olitical party and campaign financ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Stakeholders in electoral proce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292640"/>
            <a:ext cx="8208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re importa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o reinvigorate the ACEO as an important point of reference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nd tool for electoral authorities of the Caribb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784-99E0-43EB-8AB8-324271C59651}" type="slidenum">
              <a:t>7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6.  Questions &amp; Expected Outcom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We kindly request your input and active participation to address the following consid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429000"/>
            <a:ext cx="82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If so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should be the short- and long-term priorities of the Associ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42210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types of activities should the ACEO engage in the future to meet those priori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1336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2852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Is it worthwhile to have an ACE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74D9-8ECE-44DC-B25E-C02658E930F2}" type="slidenum">
              <a:t>8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7.  If we decide to have an ACEO, we need to make the following decisions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37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lect an Executive Board and Chairper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429000"/>
            <a:ext cx="82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raft a work plan that meets agreed on prior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422100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termine dues: do we pay dues and how do we use the money already collec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01336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28526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ecide on where to have the Secretari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068-5ED2-4367-A7C8-7CEEEBC44F9B}" type="slidenum">
              <a:t>9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5:48Z</dcterms:created>
  <dc:creator>Camilo Henao Medina </dc:creator>
  <dc:description/>
  <dc:language>en-US</dc:language>
  <cp:lastModifiedBy>USER</cp:lastModifiedBy>
  <dcterms:modified xsi:type="dcterms:W3CDTF">2008-11-07T00:07:28Z</dcterms:modified>
  <cp:revision>42</cp:revision>
  <dc:subject/>
  <dc:title>Diapositiva 1</dc:title>
</cp:coreProperties>
</file>