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7290-E90F-4215-9B9C-AFB0FA486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FCE2-4F48-43F8-98A5-87BA21D4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C626-6BF9-4DFC-B3C3-026720586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5157-3FD4-4C94-A52C-60E0B979B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EE58-45D4-403F-975E-7C76FC90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C608-676C-4BF2-A04F-6D672AB1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E42C-7E91-4E99-9290-F294AF01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D465-A71C-44EB-8F00-58499C8C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D7AE-1C3D-44FC-8B08-CE5EEF69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BD0D-D942-4487-A43B-4DA4599C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565C-791F-4CA6-955D-95BD75E9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62DE-EB12-422D-B9F5-BF329A1D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407D-C918-48B4-AABE-B691F189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E770-129E-4725-8CA5-730018D0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8313-B0F9-45E3-8E7C-F75BD545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743B-B5DB-4A18-8730-2D90F9252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155A-07CF-4B9D-BF25-7478B0E78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3561-44DD-4AAA-9A85-098692B1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30F1-C27B-42FB-97A9-388590AC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C638-7D3D-405B-A70A-6D22DB95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CDE0-19C9-4947-ACB8-709D0DAD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A4B0-EA76-433C-886E-216C75A6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FF6A-67D2-4944-8A59-D8F722F1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B9B0-22AF-45F9-83E6-07E060B6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3210-8262-44F3-88E5-6CB8E2E1D8CF}" type="slidenum">
              <a:rPr b="0" lang="fr-F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5C47-9528-44B3-A0DC-C76D9E7FC716}" type="slidenum">
              <a:rPr b="0" lang="fr-F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0920" y="2276640"/>
            <a:ext cx="856908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Tahoma"/>
              </a:rPr>
              <a:t>Third General Mee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CA" sz="4000" spc="-1" strike="noStrike">
                <a:solidFill>
                  <a:srgbClr val="ffffff"/>
                </a:solidFill>
                <a:latin typeface="Tahoma"/>
              </a:rPr>
              <a:t>ssociation of </a:t>
            </a:r>
            <a:r>
              <a:rPr b="1" lang="en-CA" sz="4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CA" sz="4000" spc="-1" strike="noStrike">
                <a:solidFill>
                  <a:srgbClr val="ffffff"/>
                </a:solidFill>
                <a:latin typeface="Tahoma"/>
              </a:rPr>
              <a:t>aribbean </a:t>
            </a:r>
            <a:r>
              <a:rPr b="1" lang="en-CA" sz="4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CA" sz="4000" spc="-1" strike="noStrike">
                <a:solidFill>
                  <a:srgbClr val="ffffff"/>
                </a:solidFill>
                <a:latin typeface="Tahoma"/>
              </a:rPr>
              <a:t>lectoral </a:t>
            </a:r>
            <a:r>
              <a:rPr b="1" lang="en-CA" sz="4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CA" sz="4000" spc="-1" strike="noStrike">
                <a:solidFill>
                  <a:srgbClr val="ffffff"/>
                </a:solidFill>
                <a:latin typeface="Tahoma"/>
              </a:rPr>
              <a:t>rganizations (ACEO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Kingston, Jama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November 7 &amp; 8,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1052640" cy="1773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>
            <a:alphaModFix amt="23000"/>
          </a:blip>
          <a:stretch/>
        </p:blipFill>
        <p:spPr>
          <a:xfrm>
            <a:off x="2411280" y="189000"/>
            <a:ext cx="1513080" cy="1496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716360" y="189000"/>
            <a:ext cx="1511280" cy="1479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877080" y="189000"/>
            <a:ext cx="2016000" cy="151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3595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Tahoma"/>
              </a:rPr>
              <a:t>ACEO: Next Steps</a:t>
            </a:r>
            <a:br>
              <a:rPr sz="3600"/>
            </a:br>
            <a:r>
              <a:rPr b="0" lang="en-CA" sz="3600" spc="-1" strike="noStrike">
                <a:solidFill>
                  <a:srgbClr val="ffffff"/>
                </a:solidFill>
                <a:latin typeface="Tahoma"/>
              </a:rPr>
              <a:t>Meeting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35344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ommitment to regular meeting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Annual meetings for the next three years to create momentu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2795760"/>
            <a:ext cx="676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2852640"/>
            <a:ext cx="8353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pos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Meeting in 2009 in Barb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4149720"/>
            <a:ext cx="8208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ach territory should aim to send two representativ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One from the electoral policy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One from the electoral administration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If you can’t send two representatives, send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If you can’t come every year, come whenever you c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028000" y="115920"/>
            <a:ext cx="966600" cy="162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43AF-E6BE-4392-A634-C6FBABD94CFE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3595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Tahoma"/>
              </a:rPr>
              <a:t>2. ACEO: Next Steps</a:t>
            </a:r>
            <a:br>
              <a:rPr sz="3600"/>
            </a:br>
            <a:r>
              <a:rPr b="0" lang="en-CA" sz="3600" spc="-1" strike="noStrike">
                <a:solidFill>
                  <a:srgbClr val="ffffff"/>
                </a:solidFill>
                <a:latin typeface="Tahoma"/>
              </a:rPr>
              <a:t>Membership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058240" y="115920"/>
            <a:ext cx="982440" cy="1657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11280" y="1989000"/>
            <a:ext cx="83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ach of the 22 countries and territories who originally signed up would be invited to renew their commitment to the ACE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068640"/>
            <a:ext cx="8353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ot more than two members per Electoral Management Body would normally attend meetings, except for the EMB of the host count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4437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 Executive Board could meet more often e.g. quarterl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Possibility of meeting virtually via video-conference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4869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5445000"/>
            <a:ext cx="835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o funding expected from members except attendance at meetings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6C16-A3BA-4EBD-A036-08B9A625A7D2}" type="slidenum">
              <a:t>3</a:t>
            </a:fld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280" y="304560"/>
            <a:ext cx="84312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CA" sz="3600" spc="-1" strike="noStrike">
                <a:solidFill>
                  <a:srgbClr val="ffffff"/>
                </a:solidFill>
                <a:latin typeface="Tahoma"/>
              </a:rPr>
              <a:t>3. ACEO: Next Steps</a:t>
            </a:r>
            <a:br>
              <a:rPr sz="3600"/>
            </a:br>
            <a:r>
              <a:rPr b="0" lang="en-CA" sz="3600" spc="-1" strike="noStrike">
                <a:solidFill>
                  <a:srgbClr val="ffffff"/>
                </a:solidFill>
                <a:latin typeface="Tahoma"/>
              </a:rPr>
              <a:t>Improving communication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13744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Tahoma"/>
              </a:rPr>
              <a:t>Important to set up a websit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Use for networking on shared issu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Links to database with electoral laws and instruments for different 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territor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Online bulletins on particular themes of common intere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3429000"/>
            <a:ext cx="820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very territory needs to designate a contact person to ensure follow-up and continu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Please supply contact information including an e-mail address and 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telephone num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4941720"/>
            <a:ext cx="820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Possibility of setting up partnerships for twinning members to share best practice on particular iss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101080" y="115920"/>
            <a:ext cx="939600" cy="158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7D3F-198B-43FB-BE3C-3935BEF8EF0F}" type="slidenum">
              <a:t>4</a:t>
            </a:fld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3595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Tahoma"/>
              </a:rPr>
              <a:t>4.  ACEO objectiv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1280" y="2204640"/>
            <a:ext cx="81374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Tahoma"/>
              </a:rPr>
              <a:t>Function should come before structur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We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 need to establish regular exchange between memb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Start small and build it up with tim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Different members have different environments and priorities.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he association should be flexible enough to accomodate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diverse objectiv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611280" y="4941720"/>
            <a:ext cx="820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What would you like the ACEO to do for you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058240" y="115920"/>
            <a:ext cx="982440" cy="165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E490-A064-495B-A6F1-F1AA1AE4C45E}" type="slidenum">
              <a:t>5</a:t>
            </a:fld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7:15:48Z</dcterms:created>
  <dc:creator>Camilo Henao Medina </dc:creator>
  <dc:description/>
  <dc:language>en-US</dc:language>
  <cp:lastModifiedBy>USER</cp:lastModifiedBy>
  <dcterms:modified xsi:type="dcterms:W3CDTF">2008-11-08T06:16:04Z</dcterms:modified>
  <cp:revision>44</cp:revision>
  <dc:subject/>
  <dc:title>Diapositiva 1</dc:title>
</cp:coreProperties>
</file>