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27C-D730-43CB-BB3F-2D83AF76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D49-E471-402D-B487-BEC55010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3DD-F1B5-4245-B466-AA34DFE8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D0B-3ADE-47D9-8EC4-9F1CF134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C22-9995-489D-B274-F4F385F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7C8-D1B2-4802-9E41-0A5F54D0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E8C-4DFE-4A99-B3E3-E14A583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C8A-1261-4A0B-947E-3CA6C165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21B-79FE-4D6E-88EA-F433275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CC4-2B1E-4BA6-B36A-58562AF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F11-33BF-42F8-BB00-7A73CE0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60F-367E-4E8A-8A03-E8115773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5185-E0F4-4CCD-BC8E-5D0A922A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theparliament.com/Resources/epolitix/Forum%20Microsites/Digimarc%20ID%20Systems/haiti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 of American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n the Caribbea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oasFRE"/>
          <p:cNvPicPr/>
          <p:nvPr/>
        </p:nvPicPr>
        <p:blipFill>
          <a:blip r:embed="rId1"/>
          <a:stretch/>
        </p:blipFill>
        <p:spPr>
          <a:xfrm>
            <a:off x="3962520" y="2286000"/>
            <a:ext cx="12952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5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http://www.fotopaises.com/imagenes_a/HT/7732.jpg"/>
          <p:cNvPicPr/>
          <p:nvPr/>
        </p:nvPicPr>
        <p:blipFill>
          <a:blip r:embed="rId1"/>
          <a:stretch/>
        </p:blipFill>
        <p:spPr>
          <a:xfrm>
            <a:off x="2743200" y="2971800"/>
            <a:ext cx="3809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5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Users\Chalo\Desktop\GON\Personal\Fotos\Fotos Grenada\IMG_0446.JPG"/>
          <p:cNvPicPr/>
          <p:nvPr/>
        </p:nvPicPr>
        <p:blipFill>
          <a:blip r:embed="rId1"/>
          <a:stretch/>
        </p:blipFill>
        <p:spPr>
          <a:xfrm>
            <a:off x="2514600" y="3219480"/>
            <a:ext cx="3352680" cy="251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Focus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520" y="2027160"/>
            <a:ext cx="853452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3 Rectángulo"/>
          <p:cNvSpPr/>
          <p:nvPr/>
        </p:nvSpPr>
        <p:spPr>
          <a:xfrm>
            <a:off x="389880" y="3984480"/>
            <a:ext cx="2426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Chalo\Desktop\GON\Personal\Fotos\Fotos Haiti\IMG_0340.JPG"/>
          <p:cNvPicPr/>
          <p:nvPr/>
        </p:nvPicPr>
        <p:blipFill>
          <a:blip r:embed="rId1"/>
          <a:stretch/>
        </p:blipFill>
        <p:spPr>
          <a:xfrm>
            <a:off x="838080" y="4572000"/>
            <a:ext cx="2438640" cy="182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54" name="8 Grupo"/>
          <p:cNvGrpSpPr/>
          <p:nvPr/>
        </p:nvGrpSpPr>
        <p:grpSpPr>
          <a:xfrm>
            <a:off x="914400" y="2514600"/>
            <a:ext cx="1676520" cy="1343160"/>
            <a:chOff x="914400" y="2514600"/>
            <a:chExt cx="1676520" cy="1343160"/>
          </a:xfrm>
        </p:grpSpPr>
        <p:pic>
          <p:nvPicPr>
            <p:cNvPr id="55" name="Picture 4" descr="http://www.printquest-afis.com/userexamples_files/image014.jpg"/>
            <p:cNvPicPr/>
            <p:nvPr/>
          </p:nvPicPr>
          <p:blipFill>
            <a:blip r:embed="rId2"/>
            <a:stretch/>
          </p:blipFill>
          <p:spPr>
            <a:xfrm>
              <a:off x="914400" y="2514600"/>
              <a:ext cx="167652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7 Rectángulo"/>
            <p:cNvSpPr/>
            <p:nvPr/>
          </p:nvSpPr>
          <p:spPr>
            <a:xfrm>
              <a:off x="1905120" y="2666880"/>
              <a:ext cx="609480" cy="152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6" descr="http://www.auburn.edu/academic/liberal_arts/poli_sci/journal_public_deliberation/images/e-voting.jpg"/>
          <p:cNvPicPr/>
          <p:nvPr/>
        </p:nvPicPr>
        <p:blipFill>
          <a:blip r:embed="rId3"/>
          <a:stretch/>
        </p:blipFill>
        <p:spPr>
          <a:xfrm>
            <a:off x="3124080" y="2514600"/>
            <a:ext cx="1447920" cy="133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8" name="Picture 8" descr="http://farm1.static.flickr.com/40/98370743_a0732fb2d2.jpg?v=0"/>
          <p:cNvPicPr/>
          <p:nvPr/>
        </p:nvPicPr>
        <p:blipFill>
          <a:blip r:embed="rId4"/>
          <a:stretch/>
        </p:blipFill>
        <p:spPr>
          <a:xfrm>
            <a:off x="3962520" y="4572000"/>
            <a:ext cx="2438280" cy="1828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Picture 11" descr="C:\Users\Chalo\Desktop\GON\Personal\Fotos\Fotos Haiti\IMG_0362.JPG"/>
          <p:cNvPicPr/>
          <p:nvPr/>
        </p:nvPicPr>
        <p:blipFill>
          <a:blip r:embed="rId5"/>
          <a:srcRect l="46223" t="34276" r="19608" b="2798"/>
          <a:stretch/>
        </p:blipFill>
        <p:spPr>
          <a:xfrm>
            <a:off x="6858000" y="4191120"/>
            <a:ext cx="1600200" cy="2209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Focus A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4936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 Rectángulo"/>
          <p:cNvSpPr/>
          <p:nvPr/>
        </p:nvSpPr>
        <p:spPr>
          <a:xfrm>
            <a:off x="511920" y="3841920"/>
            <a:ext cx="3927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Trans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Chalo\Desktop\GON\Personal\Fotos\Fotos Haiti\IMG_0380.JPG"/>
          <p:cNvPicPr/>
          <p:nvPr/>
        </p:nvPicPr>
        <p:blipFill>
          <a:blip r:embed="rId1"/>
          <a:stretch/>
        </p:blipFill>
        <p:spPr>
          <a:xfrm>
            <a:off x="1600200" y="4435560"/>
            <a:ext cx="2620800" cy="1965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Picture 2" descr="C:\Users\Chalo\Desktop\GON\Personal\Fotos\Fotos Grenada\IMG_0454.JPG"/>
          <p:cNvPicPr/>
          <p:nvPr/>
        </p:nvPicPr>
        <p:blipFill>
          <a:blip r:embed="rId2"/>
          <a:stretch/>
        </p:blipFill>
        <p:spPr>
          <a:xfrm>
            <a:off x="5867280" y="4425840"/>
            <a:ext cx="1538280" cy="205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Picture 4" descr="http://www.taiwanroot.org/pho/Haiti/dressup.jpg"/>
          <p:cNvPicPr/>
          <p:nvPr/>
        </p:nvPicPr>
        <p:blipFill>
          <a:blip r:embed="rId3"/>
          <a:stretch/>
        </p:blipFill>
        <p:spPr>
          <a:xfrm>
            <a:off x="1600200" y="1981080"/>
            <a:ext cx="2666880" cy="1779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Picture 6" descr="http://tbn0.google.com/images?q=tbn:Nu50fAq6nyXWDM:http://www.theparliament.com/Resources/epolitix/Forum%2520Microsites/Digimarc%2520ID%2520Systems/haiti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2209680"/>
            <a:ext cx="2238480" cy="144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20570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4:37:19Z</dcterms:created>
  <dc:creator>pc</dc:creator>
  <dc:description/>
  <dc:language>en-US</dc:language>
  <cp:lastModifiedBy>Chalo</cp:lastModifiedBy>
  <dcterms:modified xsi:type="dcterms:W3CDTF">2008-11-07T18:13:35Z</dcterms:modified>
  <cp:revision>23</cp:revision>
  <dc:subject/>
  <dc:title>Organization of American States</dc:title>
</cp:coreProperties>
</file>