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15C-8237-4DBB-9FF7-8EC0B551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0A5-9BE5-41BC-9986-38D81E8B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373-646D-4B20-8D03-B34F55E6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EDF-6B4F-4671-A022-CF371094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878-05F7-4E72-B147-06CC7571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7265-EE88-4C6C-9A21-03CC0AF7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EA3-AC6B-4143-8EAF-7D6D741B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1EC-C810-4231-8864-9559D926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104-62EC-4375-BAF3-CD70106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F41-6256-4FD0-AB72-912504F6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365-7DBD-4075-A6B0-D7372AB6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675-D0A7-4006-BAD5-DA7B22D0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AA9C-9835-42F6-B139-F188ED089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le of Electoral Management Bod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olitical Parties and Campaign Financing  in Be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Parties &amp; Campaign Fi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parties manage the business of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responsibility for borrowing and administering billions of dollars on behalf of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no laws governing Political Parties and Campaign Financing in Be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 Associated with Campaign Financing in Bel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 are privately f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aps on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bligation to declare – donor or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of public resources by incumbent poli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ue influence on government by large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roportionate financing - skewed influ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prevent the wealthy from dominating and unfairly determining electoral and political outc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limits be placed on contribution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and Advocac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y Individual Inve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Associated With Campaign Fina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Lau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 Lau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 Traff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ing of Elections (brib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mining of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ccountability (non-disclos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ue influence on Government &amp;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more Transparency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a for selection &amp; election of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forceable code of conduct for elected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for holding political parties and elected officials accountable to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ize ha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oral Management Bod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ions and Boundar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ions and Boundari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artmen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EMB is a separate, legal ent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lections and Boundari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ission (EB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1978 and was fully responsible for administration and staff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nd appointments were amended in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now comprises of one Chairperson and four me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intments are done by the Governor General in consultation with the Prime Minister and the Leader of the Op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the Com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oral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and supervision of voters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duct of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ral direction and supervision over administrative conduct of 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 conduct that is compliance with the ord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Delim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a Boundary Delimitation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ters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awareness &amp; particip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LECTIONS AND BOUNDARIES DEPART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to the Constitution transfer all staff matters to the Public Service C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risdiction of the Chief Election Officer was transferred to the Public Service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f Election Officer is responsible for the department and day-to-day operation of all phases of the electoral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the De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oral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and directing the registration of vo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ing electoral reg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and maintaining electora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the conduct of e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of Ele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ment of Electoral Records at Boundary Redistri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&amp; Objective of Depa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courage public participation, forge partnerships and to provide efficient and effective service deli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perate a professional electoral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rengthen public confidence in the electoral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crease the level of voter participation through voter educ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Commission has proven to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ness in carrying out its man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perceive to be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confidence in the elector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ive manipulation by Incumbent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ive reluctance to share information with C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scope of oversight over political parties and campaign 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Parties &amp; Campaign Fi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s of Belize requires registration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, Banks, Trade Unions, &amp; Cooper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s of Belize Do Not Require registr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Parties which can run the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 of Directors of Political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losure of party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of their financi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ability to any oversight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0:10:56Z</dcterms:created>
  <dc:creator>iwillacey</dc:creator>
  <dc:description/>
  <dc:language>en-US</dc:language>
  <cp:lastModifiedBy>Conference User</cp:lastModifiedBy>
  <dcterms:modified xsi:type="dcterms:W3CDTF">2008-11-07T18:07:33Z</dcterms:modified>
  <cp:revision>7</cp:revision>
  <dc:subject/>
  <dc:title>The Role of Electoral Management Bodies </dc:title>
</cp:coreProperties>
</file>