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0593-B13D-4F54-85F9-204E8AA0C7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870E-28DB-47AB-A607-8410854E5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523E-FEF9-44F2-A4F9-166C8DA1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4C00-2117-47C9-837D-42B5E0CB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786D-64F1-4F04-A238-7F6EC272C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3793-14F8-412B-9105-C85F7FF8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09BB-11D8-4C51-9C2A-BA696300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3FB8-9FE6-4E83-866E-3F38053F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CBCE-261E-434D-8B83-2E587A2A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3721-13D6-41C0-806D-AE983B7A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4A4D-B2BD-42CE-AF20-CB690A9C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2FD9-241F-453A-9ED7-5111650D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F6BF-34D5-4779-9383-8A475C1B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9BB6-015E-4146-B5F7-8AD8F8E57862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le 1"/>
          <p:cNvSpPr/>
          <p:nvPr/>
        </p:nvSpPr>
        <p:spPr>
          <a:xfrm>
            <a:off x="479520" y="3733920"/>
            <a:ext cx="8207280" cy="10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  <a:ea typeface="Arial"/>
              </a:rPr>
              <a:t>Sherri-Gaye Davis</a:t>
            </a:r>
            <a:br>
              <a:rPr sz="2200"/>
            </a:br>
            <a:r>
              <a:rPr b="0" lang="es-ES" sz="2200" spc="-1" strike="noStrike">
                <a:solidFill>
                  <a:srgbClr val="000000"/>
                </a:solidFill>
                <a:latin typeface="Calibri"/>
                <a:ea typeface="Arial"/>
              </a:rPr>
              <a:t>Operaciones de Campo (Jamaica)</a:t>
            </a:r>
            <a:br>
              <a:rPr sz="2200"/>
            </a:br>
            <a:r>
              <a:rPr b="0" lang="es-ES" sz="2200" spc="-1" strike="noStrike">
                <a:solidFill>
                  <a:srgbClr val="000000"/>
                </a:solidFill>
                <a:latin typeface="Calibri"/>
                <a:ea typeface="Arial"/>
              </a:rPr>
              <a:t>22 de septiembre de 2014, Ciudad de Méx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76320" y="1098720"/>
            <a:ext cx="8991360" cy="20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100" spc="-1" strike="noStrike">
                <a:solidFill>
                  <a:srgbClr val="000000"/>
                </a:solidFill>
                <a:latin typeface="Calibri"/>
              </a:rPr>
              <a:t>Accesibilidad Electoral: Herramientas y mecanismos para facilitarle el voto a las personas con capacidades  diferente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5 Rectángulo"/>
          <p:cNvSpPr/>
          <p:nvPr/>
        </p:nvSpPr>
        <p:spPr>
          <a:xfrm>
            <a:off x="0" y="5373720"/>
            <a:ext cx="9144000" cy="1484280"/>
          </a:xfrm>
          <a:prstGeom prst="rect">
            <a:avLst/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Users\IFE\Documents\VII Jornada 2014\JORNADAS-7.png"/>
          <p:cNvPicPr/>
          <p:nvPr/>
        </p:nvPicPr>
        <p:blipFill>
          <a:blip r:embed="rId1"/>
          <a:stretch/>
        </p:blipFill>
        <p:spPr>
          <a:xfrm>
            <a:off x="7812000" y="5445000"/>
            <a:ext cx="1152720" cy="132876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355680" y="93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  <a:ea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504720" y="1236600"/>
            <a:ext cx="7596360" cy="53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De los 2.72 millones de jamaiquinos, aproximadamente el 10% de la población tiene discapacida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La Ley sobre Discapacidad fue promulgada en julio de 20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6 Rectángulo"/>
          <p:cNvSpPr/>
          <p:nvPr/>
        </p:nvSpPr>
        <p:spPr>
          <a:xfrm rot="5400000">
            <a:off x="5413680" y="3118680"/>
            <a:ext cx="6858000" cy="620640"/>
          </a:xfrm>
          <a:prstGeom prst="rect">
            <a:avLst/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IFE\Documents\VII Jornada 2014\JORNADAS-7.png"/>
          <p:cNvPicPr/>
          <p:nvPr/>
        </p:nvPicPr>
        <p:blipFill>
          <a:blip r:embed="rId1"/>
          <a:stretch/>
        </p:blipFill>
        <p:spPr>
          <a:xfrm>
            <a:off x="7812000" y="5445000"/>
            <a:ext cx="1152720" cy="132876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12"/>
          <p:cNvGrpSpPr/>
          <p:nvPr/>
        </p:nvGrpSpPr>
        <p:grpSpPr>
          <a:xfrm>
            <a:off x="1619280" y="2133720"/>
            <a:ext cx="5761080" cy="3229200"/>
            <a:chOff x="1619280" y="2133720"/>
            <a:chExt cx="5761080" cy="3229200"/>
          </a:xfrm>
        </p:grpSpPr>
        <p:pic>
          <p:nvPicPr>
            <p:cNvPr id="58" name="Object 11" descr=""/>
            <p:cNvPicPr/>
            <p:nvPr/>
          </p:nvPicPr>
          <p:blipFill>
            <a:blip r:embed="rId2"/>
            <a:stretch/>
          </p:blipFill>
          <p:spPr>
            <a:xfrm>
              <a:off x="1619280" y="2133720"/>
              <a:ext cx="5454720" cy="308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Box 11"/>
            <p:cNvSpPr/>
            <p:nvPr/>
          </p:nvSpPr>
          <p:spPr>
            <a:xfrm>
              <a:off x="3311280" y="4934160"/>
              <a:ext cx="40690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1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ource: Derrick Kellier – Minister of Labour and Social Securit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  <a:ea typeface="Arial"/>
              </a:rPr>
              <a:t>Ley sobre Discapacidad (Ley de 201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457200" y="1628640"/>
            <a:ext cx="807552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A una persona con una discapacidad no se le podrá negar la oportunidad de participar en actividades o trabajos relacionados con las actividades políticas, a sab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571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La oportunidad de votar utilizando procedimientos, instalaciones y materiales que sean apropiados, accesibles, y de fácil uso y comprens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6 Rectángulo"/>
          <p:cNvSpPr/>
          <p:nvPr/>
        </p:nvSpPr>
        <p:spPr>
          <a:xfrm rot="5400000">
            <a:off x="5413680" y="3118680"/>
            <a:ext cx="6858000" cy="620640"/>
          </a:xfrm>
          <a:prstGeom prst="rect">
            <a:avLst/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C:\Users\IFE\Documents\VII Jornada 2014\JORNADAS-7.png"/>
          <p:cNvPicPr/>
          <p:nvPr/>
        </p:nvPicPr>
        <p:blipFill>
          <a:blip r:embed="rId1"/>
          <a:stretch/>
        </p:blipFill>
        <p:spPr>
          <a:xfrm>
            <a:off x="7812000" y="5445000"/>
            <a:ext cx="1152720" cy="1328760"/>
          </a:xfrm>
          <a:prstGeom prst="rect">
            <a:avLst/>
          </a:prstGeom>
          <a:ln w="0">
            <a:noFill/>
          </a:ln>
        </p:spPr>
      </p:pic>
      <p:sp>
        <p:nvSpPr>
          <p:cNvPr id="6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250920" y="366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  <a:ea typeface="Arial"/>
              </a:rPr>
              <a:t>Ley de Discapacidad (Ley de 2014)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457200" y="1628640"/>
            <a:ext cx="807552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571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roman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Arial"/>
              </a:rPr>
              <a:t>La oportunidad de ser electo a un cargo político y a desempeñar funciones públicas en cualquier nivel del gobie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571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roman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5713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alibri"/>
              <a:buAutoNum type="roman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571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roman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Arial"/>
              </a:rPr>
              <a:t>Participación en las actividades y en la administración de los partidos políticos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571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6 Rectángulo"/>
          <p:cNvSpPr/>
          <p:nvPr/>
        </p:nvSpPr>
        <p:spPr>
          <a:xfrm rot="5400000">
            <a:off x="5413680" y="3118680"/>
            <a:ext cx="6858000" cy="620640"/>
          </a:xfrm>
          <a:prstGeom prst="rect">
            <a:avLst/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Users\IFE\Documents\VII Jornada 2014\JORNADAS-7.png"/>
          <p:cNvPicPr/>
          <p:nvPr/>
        </p:nvPicPr>
        <p:blipFill>
          <a:blip r:embed="rId1"/>
          <a:stretch/>
        </p:blipFill>
        <p:spPr>
          <a:xfrm>
            <a:off x="7812000" y="5445000"/>
            <a:ext cx="1152720" cy="1328760"/>
          </a:xfrm>
          <a:prstGeom prst="rect">
            <a:avLst/>
          </a:prstGeom>
          <a:ln w="0">
            <a:noFill/>
          </a:ln>
        </p:spPr>
      </p:pic>
      <p:sp>
        <p:nvSpPr>
          <p:cNvPr id="7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800" spc="-1" strike="noStrike">
                <a:solidFill>
                  <a:srgbClr val="000000"/>
                </a:solidFill>
                <a:latin typeface="Calibri"/>
              </a:rPr>
              <a:t>El proceso electoral (Empadronamiento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1628640"/>
            <a:ext cx="80755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 votación es precedida por el empadrona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os edificios que se usan como centros de registro son generalmente privados y no cuentan con la infraestructura adecuada (para facilitar el acceso a los discapacitados).</a:t>
            </a:r>
            <a:r>
              <a:rPr b="0" lang="es-ES" sz="32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os electores discapacitados son asistidos registrándolos en sus hogares o en los centros de registro ubicados en planta baja, según corresponda.</a:t>
            </a:r>
            <a:r>
              <a:rPr b="0" lang="es-ES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6 Rectángulo"/>
          <p:cNvSpPr/>
          <p:nvPr/>
        </p:nvSpPr>
        <p:spPr>
          <a:xfrm rot="5400000">
            <a:off x="5413680" y="3118680"/>
            <a:ext cx="6858000" cy="620640"/>
          </a:xfrm>
          <a:prstGeom prst="rect">
            <a:avLst/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C:\Users\IFE\Documents\VII Jornada 2014\JORNADAS-7.png"/>
          <p:cNvPicPr/>
          <p:nvPr/>
        </p:nvPicPr>
        <p:blipFill>
          <a:blip r:embed="rId1"/>
          <a:stretch/>
        </p:blipFill>
        <p:spPr>
          <a:xfrm>
            <a:off x="7812000" y="5445000"/>
            <a:ext cx="1152720" cy="1328760"/>
          </a:xfrm>
          <a:prstGeom prst="rect">
            <a:avLst/>
          </a:prstGeom>
          <a:ln w="0">
            <a:noFill/>
          </a:ln>
        </p:spPr>
      </p:pic>
      <p:sp>
        <p:nvSpPr>
          <p:cNvPr id="7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800" spc="-1" strike="noStrike">
                <a:solidFill>
                  <a:srgbClr val="000000"/>
                </a:solidFill>
                <a:latin typeface="Calibri"/>
              </a:rPr>
              <a:t>El proceso electoral (Empadronamiento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800" spc="-1" strike="noStrike">
                <a:solidFill>
                  <a:srgbClr val="000000"/>
                </a:solidFill>
                <a:latin typeface="Calibri"/>
              </a:rPr>
              <a:t>Cont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457200" y="1752480"/>
            <a:ext cx="8075520" cy="46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Arial"/>
              </a:rPr>
              <a:t>A los electores físicamente discapacitados/o postrados en cama, se les facilita la votación mediante el envío a domicilio de sus tarjetas de identificación (cuando así lo solicite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Arial"/>
              </a:rPr>
              <a:t>Se seleccionan comercios/lugares en planta baja para las oficinas políticas o centros de votación, en lo po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6 Rectángulo"/>
          <p:cNvSpPr/>
          <p:nvPr/>
        </p:nvSpPr>
        <p:spPr>
          <a:xfrm rot="5400000">
            <a:off x="5413680" y="3118680"/>
            <a:ext cx="6858000" cy="620640"/>
          </a:xfrm>
          <a:prstGeom prst="rect">
            <a:avLst/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C:\Users\IFE\Documents\VII Jornada 2014\JORNADAS-7.png"/>
          <p:cNvPicPr/>
          <p:nvPr/>
        </p:nvPicPr>
        <p:blipFill>
          <a:blip r:embed="rId1"/>
          <a:stretch/>
        </p:blipFill>
        <p:spPr>
          <a:xfrm>
            <a:off x="7812000" y="5445000"/>
            <a:ext cx="1152720" cy="1328760"/>
          </a:xfrm>
          <a:prstGeom prst="rect">
            <a:avLst/>
          </a:prstGeom>
          <a:ln w="0">
            <a:noFill/>
          </a:ln>
        </p:spPr>
      </p:pic>
      <p:sp>
        <p:nvSpPr>
          <p:cNvPr id="8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  <a:ea typeface="Arial"/>
              </a:rPr>
              <a:t>El proceso electoral (Votació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57200" y="1484280"/>
            <a:ext cx="7786800" cy="48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La Comisión Electoral de Jamaica (CEJ) no posee edificios para la votació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Se utilizan edificios públicos, los cuales en algunos casos no tienen la infraestructura apropiada para facilitar el ingreso a personas discapacitad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Se utilizan carpas/tiendas como centros de votación en los casos que los edificios tengan muchos pisos o no cuenten con el espacio suficiente para albergar un centro de votació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6 Rectángulo"/>
          <p:cNvSpPr/>
          <p:nvPr/>
        </p:nvSpPr>
        <p:spPr>
          <a:xfrm rot="5400000">
            <a:off x="5413680" y="3118680"/>
            <a:ext cx="6858000" cy="620640"/>
          </a:xfrm>
          <a:prstGeom prst="rect">
            <a:avLst/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Users\IFE\Documents\VII Jornada 2014\JORNADAS-7.png"/>
          <p:cNvPicPr/>
          <p:nvPr/>
        </p:nvPicPr>
        <p:blipFill>
          <a:blip r:embed="rId1"/>
          <a:stretch/>
        </p:blipFill>
        <p:spPr>
          <a:xfrm>
            <a:off x="7812000" y="5445000"/>
            <a:ext cx="1152720" cy="1328760"/>
          </a:xfrm>
          <a:prstGeom prst="rect">
            <a:avLst/>
          </a:prstGeom>
          <a:ln w="0">
            <a:noFill/>
          </a:ln>
        </p:spPr>
      </p:pic>
      <p:sp>
        <p:nvSpPr>
          <p:cNvPr id="8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457200" y="250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000000"/>
                </a:solidFill>
                <a:latin typeface="Calibri"/>
                <a:ea typeface="Arial"/>
              </a:rPr>
              <a:t>Votación asist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1474920"/>
            <a:ext cx="8075520" cy="48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Arial"/>
              </a:rPr>
              <a:t>Hay dos (2) tipos/métodos de vot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Electrónica (EBV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Arial"/>
              </a:rPr>
              <a:t>Se asiste en la votación a los electores que presentan diversas formas de discapacidad, a sab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Discapacidad vis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Discapacidad fí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6 Rectángulo"/>
          <p:cNvSpPr/>
          <p:nvPr/>
        </p:nvSpPr>
        <p:spPr>
          <a:xfrm rot="5400000">
            <a:off x="5413680" y="3118680"/>
            <a:ext cx="6858000" cy="620640"/>
          </a:xfrm>
          <a:prstGeom prst="rect">
            <a:avLst/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C:\Users\IFE\Documents\VII Jornada 2014\JORNADAS-7.png"/>
          <p:cNvPicPr/>
          <p:nvPr/>
        </p:nvPicPr>
        <p:blipFill>
          <a:blip r:embed="rId1"/>
          <a:stretch/>
        </p:blipFill>
        <p:spPr>
          <a:xfrm>
            <a:off x="7812000" y="5445000"/>
            <a:ext cx="1152720" cy="1328760"/>
          </a:xfrm>
          <a:prstGeom prst="rect">
            <a:avLst/>
          </a:prstGeom>
          <a:ln w="0">
            <a:noFill/>
          </a:ln>
        </p:spPr>
      </p:pic>
      <p:sp>
        <p:nvSpPr>
          <p:cNvPr id="9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45720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  <a:ea typeface="Arial"/>
              </a:rPr>
              <a:t>Consideraciones espe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57200" y="1457280"/>
            <a:ext cx="80755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La Oficina Electoral de Jamaica ha modificado su Sede Principal para asegurar el acces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El código técnico de construcción de Jamaica ha sido enmendado para los edificios de escuelas y otros edificios públicos para facilitar el acceso de personas con discapacida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Las personas de la tercera edad, embarazadas y otras personas con discapacidad, no tienen que hacer fila para votar, acceden directamen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6 Rectángulo"/>
          <p:cNvSpPr/>
          <p:nvPr/>
        </p:nvSpPr>
        <p:spPr>
          <a:xfrm rot="5400000">
            <a:off x="5413680" y="3118680"/>
            <a:ext cx="6858000" cy="620640"/>
          </a:xfrm>
          <a:prstGeom prst="rect">
            <a:avLst/>
          </a:prstGeom>
          <a:solidFill>
            <a:srgbClr val="fcd5b5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C:\Users\IFE\Documents\VII Jornada 2014\JORNADAS-7.png"/>
          <p:cNvPicPr/>
          <p:nvPr/>
        </p:nvPicPr>
        <p:blipFill>
          <a:blip r:embed="rId1"/>
          <a:stretch/>
        </p:blipFill>
        <p:spPr>
          <a:xfrm>
            <a:off x="7812000" y="5445000"/>
            <a:ext cx="1152720" cy="1328760"/>
          </a:xfrm>
          <a:prstGeom prst="rect">
            <a:avLst/>
          </a:prstGeom>
          <a:ln w="0">
            <a:noFill/>
          </a:ln>
        </p:spPr>
      </p:pic>
      <p:sp>
        <p:nvSpPr>
          <p:cNvPr id="9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ntos, Ada</dc:creator>
  <dc:description/>
  <dc:language>en-US</dc:language>
  <cp:lastModifiedBy>%username%</cp:lastModifiedBy>
  <dcterms:modified xsi:type="dcterms:W3CDTF">2014-09-17T20:22:19Z</dcterms:modified>
  <cp:revision>4</cp:revision>
  <dc:subject/>
  <dc:title>Slide 1</dc:title>
</cp:coreProperties>
</file>