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3D81-B6DB-42FB-90E7-3E461A877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034-B8D3-41D7-8A5B-CF3B629F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D75-6071-430B-9A5C-F174F614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9DA-E96F-4C95-BEDA-8161C24A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B7C-EE18-4CB2-B2A0-C7A43D17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B3D-BE5A-4890-AAC2-76C9F4F7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C98-7159-4435-9C4F-10EA4766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DD9-212A-4CA6-BCDA-56857BFB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B4C-6FDB-49F3-A1B8-AD3765D9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95D-CB10-4499-963C-093560BD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3F6-FB55-42C2-B660-57F0EE3C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F96-8880-43B8-ACFC-2A24DD21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4F3-759F-4860-93BA-74E90654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4016-BFF7-4CBF-B09F-14FCDD44B44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479520" y="3733920"/>
            <a:ext cx="820728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mbria"/>
              </a:rPr>
              <a:t>Mark Kirton, PhD</a:t>
            </a:r>
            <a:br>
              <a:rPr sz="1900"/>
            </a:br>
            <a:r>
              <a:rPr b="0" lang="es-ES" sz="1900" spc="-1" strike="noStrike">
                <a:solidFill>
                  <a:srgbClr val="000000"/>
                </a:solidFill>
                <a:latin typeface="Cambria"/>
              </a:rPr>
              <a:t>Instituto de Relaciones Internacionales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mbria"/>
              </a:rPr>
              <a:t>Universidad de las Indias Occidentales</a:t>
            </a:r>
            <a:br>
              <a:rPr sz="1900"/>
            </a:br>
            <a:r>
              <a:rPr b="0" lang="es-ES" sz="1900" spc="-1" strike="noStrike">
                <a:solidFill>
                  <a:srgbClr val="000000"/>
                </a:solidFill>
                <a:latin typeface="Cambria"/>
              </a:rPr>
              <a:t>Ciudad de México, septiembre de 2014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6320" y="1098720"/>
            <a:ext cx="899136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mbria"/>
              </a:rPr>
              <a:t>Estrategias para promov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mbria"/>
              </a:rPr>
              <a:t>una mayor participación electoral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mbria"/>
              </a:rPr>
              <a:t>perspectiva del Cari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5 Rectángulo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articipación en el proceso elector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r la posibilidad de votar los fines de semana a fin de aumentar la particip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r la votación obligatoria (R2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r el establecimiento de un proceso de inscripción eficiente para procurar la participación de un mayor número de ciudada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el diálogo público a fin de aumentar la conciencia y comprensión de los asuntos por el públic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mentar la participación de comunidades “excluidas” (amerindios, pueblos indígen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articipación en el proceso elector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r el uso de los medios sociales como foro para promover la participación de los ciudadanos en el proceso electoral (U-Tube, twitter, facebook, blogs, etc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r los canales existentes para la comunicación directa entre posibles votantes y órganos de administración electoral y proporcionar retroalimentació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cionar recursos para franqueo y materiales a fin de que todos los partidos puedan llegar a todos los posibles votant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r los medios de comunicación tradicionales (televisión, radio, periódico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57200" y="115920"/>
            <a:ext cx="8229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articipación en el proceso electo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24000" y="932040"/>
            <a:ext cx="820872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er a más mujeres a la escena política y electoral eliminando los obstáculos estructurales (adoptar leyes sobre cupos en los lugares donde no las hay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mentar la participación de los jóvenes en la vida política y en las elecciones como candida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er disposiciones jurídicas para la inclusión de jóvenes en las comisiones elector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6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8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articipación en el proceso elector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artidos políticos deberí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recer incentivos a los jóvenes y las mujeres mediante el fortalecimiento de las ramas juveniles y los grupos femeninos en la estructura de los parti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ver la comunicación por los medios sociales a fin de fomentar el deb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recer programas de aumento de la capacidad a fin de atraer a los jóvenes a distintas áreas (política pública, comunicación, desarrollo social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115920"/>
            <a:ext cx="8229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932040"/>
            <a:ext cx="83628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6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Calibri"/>
              </a:rPr>
              <a:t>Graci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115920"/>
            <a:ext cx="8229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mbria"/>
              </a:rPr>
              <a:t>Introduc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24000" y="787320"/>
            <a:ext cx="8208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articipación política y electoral es crucial para la consolidación de la democracia representativa y el fomento del sentido de ciudadaní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articipación de los ciudadanos en la vida democrática de sus comunidades y estados se considera como un derecho fundamental (artículo VI de la Carta de la Sociedad Civil de CARICOM; Declaración Universal de los Derechos del Hombre, de 1948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elecciones se consideran como la base para el fortalecimiento del proceso democrático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: Elec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fundamental en las instituciones que posibilitan la democracia es la realización regular de elecciones “libres y abiertas” para seleccionar a representantes que se encarguen de manejar la totalidad o la mayor parte de la política pública de la sociedad (Dahl,196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articipación incluyente en la selección de líderes y políticas por medio de elecciones “libres y justas” es un elemento decisivo de la relación entre la democracia y la participación de los ciudadanos en el proceso electoral (Diamond et al., 1995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articipación en el proceso electoral es crucial para dar legitimidad democrática a estructuras e instituciones de gobernanz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íntomas de una menor participación de los ciudadanos en el proceso electo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17320"/>
            <a:ext cx="822960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bemos considerar la opinión de que, desde fines del siglo XX, se observa un aumento en la falta de participación o en la abstención  de los ciudadanos en las áreas formales y tradicionales de participación política y un aumento de la participación en la política de la “protesta” (asuntos relacionados con el aumento de la temperatura mundial, el medio ambiente, la pobreza y los derechos humano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do por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menor número de votantes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sificación de sentimientos contrarios a los partidos políticos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ioro de las organizaciones cívicas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o del individualismo, especialmente entre los jóvenes (¿para qué me sirve esto?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s incentivos y pérdida de interés de los jóvenes en lo que respecta a la participación; 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número de votantes en las elecciones y apatía en algunos estado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ri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omparación, en el Caribe ha habido una mayor participación de los votantes que en otros país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e señalar que, en Antigua y Barbuda, las elecciones han sido muy concurridas, pero eso guarda menos relación con la motivación de los votantes y más con la limpieza de las listas de votantes”, agregando que una inscripción periódica garantiza que en la lista de votantes prácticamente no haya ninguna persona que haya fallecido o emigrado o que esté inhabilitada para votar por cualquier otro motivo (Wickham, 2014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adísticas electo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58920" y="1773360"/>
          <a:ext cx="6481800" cy="4319640"/>
        </p:xfrm>
        <a:graphic>
          <a:graphicData uri="http://schemas.openxmlformats.org/drawingml/2006/table">
            <a:tbl>
              <a:tblPr/>
              <a:tblGrid>
                <a:gridCol w="4645080"/>
                <a:gridCol w="1836720"/>
              </a:tblGrid>
              <a:tr h="539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erritor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rcenta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ntigua y Barbuda -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0,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0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76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ahamas   - 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0,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arbados  - 20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5,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0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elice - 20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3,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9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renada - 20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7,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9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n Vicente - 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,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40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aití - 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TT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,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anza en las elec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interesante, no obstante, es que, en la encuesta de 2012 del Proyecto de Opinión Pública de América Latina, se observaron diferencias en la respuesta a la pregunta sobre la “confianza en las elecciones”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ce – 58,7%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aica – 49,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yana – 48,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nidad – 49,2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tí – 3,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qué es importante la participación de los ciudadanos en el proceso político y elect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articipación debe considerarse como una responsabilidad cívic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articipación puede aumentar el involucramiento en el funcionamiento del país e inducir cambios para mejorar la calidad de vida de todos los ciudadano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miento mundial en pro del ejercicio de las libertad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imientos de empoderamiento y autodeterminació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imiento de orgullo nacional y de que se está trazando el rumbo del paí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articipación en el proceso elector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alizar a los funcionarios electorales (alto nivel de eficiencia, integridad y conocimiento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ar a las comisiones electorales y los organismos de administración electoral para intensificar las actividades de divulgación a fin de promover una mayor participación de los vota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rgar mayores facultades legislativas de las comisiones a fin de aumentar su independencia e imparcial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ar el acceso de todos a las mesas elector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lla</dc:creator>
  <dc:description/>
  <dc:language>en-US</dc:language>
  <cp:lastModifiedBy>USER</cp:lastModifiedBy>
  <dcterms:modified xsi:type="dcterms:W3CDTF">2014-09-23T23:54:51Z</dcterms:modified>
  <cp:revision>20</cp:revision>
  <dc:subject/>
  <dc:title>PowerPoint Presentation</dc:title>
</cp:coreProperties>
</file>