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154-6807-4841-ADEE-C290094F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195-FB76-40E8-A5B4-CC27189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A49-8FCB-4B77-BF77-67B33765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584-454C-4FA7-99CE-72ACFB16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E08-6BD9-49D5-A727-0A9704C9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5DC-8C06-4786-8C09-686745B7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76B-EF3A-417F-B693-484E6C1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53E-D148-4F7D-82DE-6D67EBD5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6BD-79D7-4C40-8E88-1238F09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156-574B-46FD-B566-0BCFA40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3F3-F0E2-415C-A4F3-74E4337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E93-C7A4-4F81-A756-58D0EF2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EF2-C28A-4366-9429-64152582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w Cen MT"/>
              </a:rPr>
              <a:t>The Mexican Experience with the Inter-American Human Rights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Panel: Regional Bodies in Charge of Promoting and Protecting Human Righ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OAS-AU For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Tw Cen MT"/>
              </a:rPr>
              <a:t>13 October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Evolution of Mexican position towards international scrutiny in the field of huma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1980s 1st wave of ratification of international tre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1998 Acceptance of Inter-American Human Rights Court juris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21st Century. Complete openness to international scrut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Ratification of all International Human Rights Tre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ooperation with Office of UN High Comissioner on Human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reation of a National Human Righ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ompliance with obligatons under International Human Rights Tre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Benefits from participation in IAH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Legal revolution in national human rights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2008 Constitutional Reform on public security and penal justice oriented to respecting human righ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2011 Constitutional Reform on Human Righ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Recognition of the rights contained in International Human Rights Tre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bligation of the State to respect, protect, and promo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bligation to investigate and jud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Punish and repa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w Cen MT"/>
              </a:rPr>
              <a:t>Preparing Law on Repa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Benefits from participation in IAH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Rosendo Radilla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Military Justice Code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Supreme Court of Justice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All violations of Human Rights by the military will be tried in civil cou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maining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Translating the legal reforms into realities on the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Work jointly with the IAHRS to strengthen its capacity (financing, refining working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22:54:02Z</dcterms:created>
  <dc:creator>Karla Ornelas Loera</dc:creator>
  <dc:description/>
  <dc:language>en-US</dc:language>
  <cp:lastModifiedBy>Karla Ornelas Loera</cp:lastModifiedBy>
  <dcterms:modified xsi:type="dcterms:W3CDTF">2011-10-21T20:49:25Z</dcterms:modified>
  <cp:revision>5</cp:revision>
  <dc:subject/>
  <dc:title>PowerPoint Presentation</dc:title>
</cp:coreProperties>
</file>